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10158413" cy="7621588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817884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66400" y="4457520"/>
            <a:ext cx="817884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66400" y="445752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457160" y="445752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031920" y="208260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797440" y="208260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66400" y="445752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031920" y="445752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797440" y="445752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2D2A22-CC8D-44FB-82B6-02408C2D9BD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266400" y="2082600"/>
            <a:ext cx="8178840" cy="45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CF4F9A-59FB-4B6A-B14C-BB7EE14A717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817884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B47A02-F1CD-43D5-ABBF-AB0B16A86C4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ED9EAA-C36E-40EE-86CE-6FFE4A424B9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365ED1-3E6A-47B2-9353-AB1E1CA49BE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266400" y="139320"/>
            <a:ext cx="4483080" cy="78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595DE7-B52E-479F-8FBA-204824961D9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66400" y="445752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532CA8-20BC-4852-8C97-3B658ABE898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66400" y="2082600"/>
            <a:ext cx="8178840" cy="45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457160" y="445752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7174CE-9E1F-4A46-8620-916FA7A086D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66400" y="4457520"/>
            <a:ext cx="817884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22666E-8C40-408C-A0C6-32EC0791D4B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817884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266400" y="4457520"/>
            <a:ext cx="817884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28E820-E95F-4155-9BEF-73B386D067C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266400" y="445752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457160" y="445752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06FF56-67DE-4809-847D-10D3E881842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031920" y="208260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5797440" y="208260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266400" y="445752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031920" y="445752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5797440" y="445752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12A80F-39F8-4BDC-B426-8A82C89F45A3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266400" y="2082600"/>
            <a:ext cx="8178840" cy="45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817884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817884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266400" y="139320"/>
            <a:ext cx="4483080" cy="78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266400" y="445752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457160" y="445752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266400" y="4457520"/>
            <a:ext cx="817884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817884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66400" y="4457520"/>
            <a:ext cx="817884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266400" y="445752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457160" y="445752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031920" y="208260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797440" y="208260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266400" y="445752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031920" y="445752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797440" y="445752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66400" y="139320"/>
            <a:ext cx="4483080" cy="78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66400" y="445752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457160" y="445752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66400" y="4457520"/>
            <a:ext cx="817884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rcRect l="28214" t="291" r="0" b="6895"/>
          <a:stretch/>
        </p:blipFill>
        <p:spPr>
          <a:xfrm>
            <a:off x="6807240" y="1981080"/>
            <a:ext cx="3230640" cy="4130640"/>
          </a:xfrm>
          <a:prstGeom prst="rect">
            <a:avLst/>
          </a:prstGeom>
          <a:ln w="0">
            <a:noFill/>
          </a:ln>
        </p:spPr>
      </p:pic>
      <p:sp>
        <p:nvSpPr>
          <p:cNvPr id="1" name="Rectangle 2"/>
          <p:cNvSpPr/>
          <p:nvPr/>
        </p:nvSpPr>
        <p:spPr>
          <a:xfrm>
            <a:off x="-12600" y="1981080"/>
            <a:ext cx="622080" cy="4140360"/>
          </a:xfrm>
          <a:prstGeom prst="rect">
            <a:avLst/>
          </a:prstGeom>
          <a:solidFill>
            <a:srgbClr val="0f56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" name="Rectangle 3"/>
          <p:cNvSpPr/>
          <p:nvPr/>
        </p:nvSpPr>
        <p:spPr>
          <a:xfrm>
            <a:off x="9880560" y="291960"/>
            <a:ext cx="152280" cy="7340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AutoShape 4"/>
          <p:cNvSpPr/>
          <p:nvPr/>
        </p:nvSpPr>
        <p:spPr>
          <a:xfrm flipH="1" rot="21566400">
            <a:off x="9866880" y="-25560"/>
            <a:ext cx="162000" cy="327240"/>
          </a:xfrm>
          <a:prstGeom prst="rtTriangl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Rectangle 5"/>
          <p:cNvSpPr/>
          <p:nvPr/>
        </p:nvSpPr>
        <p:spPr>
          <a:xfrm rot="10800000">
            <a:off x="444600" y="1898640"/>
            <a:ext cx="164880" cy="390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5" name="Picture 6" descr=""/>
          <p:cNvPicPr/>
          <p:nvPr/>
        </p:nvPicPr>
        <p:blipFill>
          <a:blip r:embed="rId3"/>
          <a:stretch/>
        </p:blipFill>
        <p:spPr>
          <a:xfrm>
            <a:off x="614520" y="6553080"/>
            <a:ext cx="1855800" cy="714600"/>
          </a:xfrm>
          <a:prstGeom prst="rect">
            <a:avLst/>
          </a:prstGeom>
          <a:ln w="0">
            <a:noFill/>
          </a:ln>
        </p:spPr>
      </p:pic>
      <p:sp>
        <p:nvSpPr>
          <p:cNvPr id="6" name="AutoShape 9"/>
          <p:cNvSpPr/>
          <p:nvPr/>
        </p:nvSpPr>
        <p:spPr>
          <a:xfrm rot="10765800">
            <a:off x="456840" y="5789160"/>
            <a:ext cx="152280" cy="32868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7" name="Picture 10" descr=""/>
          <p:cNvPicPr/>
          <p:nvPr/>
        </p:nvPicPr>
        <p:blipFill>
          <a:blip r:embed="rId4"/>
          <a:stretch/>
        </p:blipFill>
        <p:spPr>
          <a:xfrm>
            <a:off x="603360" y="1981080"/>
            <a:ext cx="6194160" cy="4148280"/>
          </a:xfrm>
          <a:prstGeom prst="rect">
            <a:avLst/>
          </a:prstGeom>
          <a:ln w="0">
            <a:noFill/>
          </a:ln>
        </p:spPr>
      </p:pic>
      <p:sp>
        <p:nvSpPr>
          <p:cNvPr id="8" name="Rectangle 11"/>
          <p:cNvSpPr/>
          <p:nvPr/>
        </p:nvSpPr>
        <p:spPr>
          <a:xfrm>
            <a:off x="6789600" y="2273400"/>
            <a:ext cx="152640" cy="3857400"/>
          </a:xfrm>
          <a:prstGeom prst="rect">
            <a:avLst/>
          </a:prstGeom>
          <a:solidFill>
            <a:srgbClr val="0f56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AutoShape 12"/>
          <p:cNvSpPr/>
          <p:nvPr/>
        </p:nvSpPr>
        <p:spPr>
          <a:xfrm rot="21566400">
            <a:off x="6794280" y="1968120"/>
            <a:ext cx="152280" cy="330120"/>
          </a:xfrm>
          <a:prstGeom prst="rtTriangle">
            <a:avLst/>
          </a:prstGeom>
          <a:solidFill>
            <a:srgbClr val="0f56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" name="Rectangle 13"/>
          <p:cNvSpPr/>
          <p:nvPr/>
        </p:nvSpPr>
        <p:spPr>
          <a:xfrm>
            <a:off x="10023480" y="-19080"/>
            <a:ext cx="149400" cy="7651800"/>
          </a:xfrm>
          <a:prstGeom prst="rect">
            <a:avLst/>
          </a:prstGeom>
          <a:solidFill>
            <a:srgbClr val="0f56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"/>
          <p:cNvSpPr/>
          <p:nvPr/>
        </p:nvSpPr>
        <p:spPr>
          <a:xfrm>
            <a:off x="-50760" y="-22320"/>
            <a:ext cx="7061040" cy="2054160"/>
          </a:xfrm>
          <a:prstGeom prst="rect">
            <a:avLst/>
          </a:prstGeom>
          <a:solidFill>
            <a:srgbClr val="1c5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266400" y="2082600"/>
            <a:ext cx="817884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lvl="1" marL="406440" indent="-216000">
              <a:spcBef>
                <a:spcPts val="1100"/>
              </a:spcBef>
              <a:buClr>
                <a:srgbClr val="1c589d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lvl="2" marL="673200" indent="-254160">
              <a:spcBef>
                <a:spcPts val="1100"/>
              </a:spcBef>
              <a:buClr>
                <a:srgbClr val="5a6c5f"/>
              </a:buClr>
              <a:buSzPct val="64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lvl="3" marL="1714680" indent="-457200">
              <a:spcBef>
                <a:spcPts val="1100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457200">
              <a:spcBef>
                <a:spcPts val="1100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457200">
              <a:spcBef>
                <a:spcPts val="1100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457200">
              <a:spcBef>
                <a:spcPts val="1100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49" name="Picture 3" descr=""/>
          <p:cNvPicPr/>
          <p:nvPr/>
        </p:nvPicPr>
        <p:blipFill>
          <a:blip r:embed="rId2"/>
          <a:stretch/>
        </p:blipFill>
        <p:spPr>
          <a:xfrm>
            <a:off x="7524720" y="6670800"/>
            <a:ext cx="2013120" cy="77472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sldNum" idx="1"/>
          </p:nvPr>
        </p:nvSpPr>
        <p:spPr>
          <a:xfrm>
            <a:off x="4952520" y="7315200"/>
            <a:ext cx="241560" cy="21600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ill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B3496-BEE0-49ED-B1D3-62A9F5A19F22}" type="slidenum">
              <a:rPr b="0" lang="en-US" sz="1200" spc="-1" strike="noStrike">
                <a:solidFill>
                  <a:srgbClr val="000000"/>
                </a:solidFill>
                <a:latin typeface="Gill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52" name="Picture 6" descr=""/>
          <p:cNvPicPr/>
          <p:nvPr/>
        </p:nvPicPr>
        <p:blipFill>
          <a:blip r:embed="rId3"/>
          <a:srcRect l="0" t="34227" r="255" b="459"/>
          <a:stretch/>
        </p:blipFill>
        <p:spPr>
          <a:xfrm>
            <a:off x="8013600" y="-3240"/>
            <a:ext cx="2146320" cy="20224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" descr=""/>
          <p:cNvPicPr/>
          <p:nvPr/>
        </p:nvPicPr>
        <p:blipFill>
          <a:blip r:embed="rId4"/>
          <a:srcRect l="27090" t="0" r="0" b="24901"/>
          <a:stretch/>
        </p:blipFill>
        <p:spPr>
          <a:xfrm>
            <a:off x="5078520" y="-19080"/>
            <a:ext cx="3076560" cy="205272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8"/>
          <p:cNvSpPr/>
          <p:nvPr/>
        </p:nvSpPr>
        <p:spPr>
          <a:xfrm>
            <a:off x="8094600" y="-6480"/>
            <a:ext cx="84240" cy="2038320"/>
          </a:xfrm>
          <a:prstGeom prst="rect">
            <a:avLst/>
          </a:prstGeom>
          <a:solidFill>
            <a:srgbClr val="0f56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5" name="Rectangle 9"/>
          <p:cNvSpPr/>
          <p:nvPr/>
        </p:nvSpPr>
        <p:spPr>
          <a:xfrm rot="10800000">
            <a:off x="5079600" y="-19080"/>
            <a:ext cx="152280" cy="1797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6" name="AutoShape 10"/>
          <p:cNvSpPr/>
          <p:nvPr/>
        </p:nvSpPr>
        <p:spPr>
          <a:xfrm flipH="1" rot="10766400">
            <a:off x="5079600" y="1763280"/>
            <a:ext cx="152280" cy="33012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13" descr=""/>
          <p:cNvPicPr/>
          <p:nvPr/>
        </p:nvPicPr>
        <p:blipFill>
          <a:blip r:embed="rId2"/>
          <a:srcRect l="28214" t="291" r="0" b="6895"/>
          <a:stretch/>
        </p:blipFill>
        <p:spPr>
          <a:xfrm>
            <a:off x="6807240" y="1981080"/>
            <a:ext cx="3230640" cy="413064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14"/>
          <p:cNvSpPr/>
          <p:nvPr/>
        </p:nvSpPr>
        <p:spPr>
          <a:xfrm>
            <a:off x="-12600" y="1981080"/>
            <a:ext cx="622080" cy="4140360"/>
          </a:xfrm>
          <a:prstGeom prst="rect">
            <a:avLst/>
          </a:prstGeom>
          <a:solidFill>
            <a:srgbClr val="0f56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5" name="Rectangle 15"/>
          <p:cNvSpPr/>
          <p:nvPr/>
        </p:nvSpPr>
        <p:spPr>
          <a:xfrm>
            <a:off x="9880560" y="291960"/>
            <a:ext cx="152280" cy="7340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6" name="AutoShape 5"/>
          <p:cNvSpPr/>
          <p:nvPr/>
        </p:nvSpPr>
        <p:spPr>
          <a:xfrm flipH="1" rot="21566400">
            <a:off x="9866880" y="-25560"/>
            <a:ext cx="162000" cy="327240"/>
          </a:xfrm>
          <a:prstGeom prst="rtTriangl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7" name="Rectangle 17"/>
          <p:cNvSpPr/>
          <p:nvPr/>
        </p:nvSpPr>
        <p:spPr>
          <a:xfrm rot="10800000">
            <a:off x="444600" y="1898640"/>
            <a:ext cx="164880" cy="390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98" name="Picture 18" descr=""/>
          <p:cNvPicPr/>
          <p:nvPr/>
        </p:nvPicPr>
        <p:blipFill>
          <a:blip r:embed="rId3"/>
          <a:stretch/>
        </p:blipFill>
        <p:spPr>
          <a:xfrm>
            <a:off x="614520" y="6553080"/>
            <a:ext cx="1855800" cy="714600"/>
          </a:xfrm>
          <a:prstGeom prst="rect">
            <a:avLst/>
          </a:prstGeom>
          <a:ln w="0">
            <a:noFill/>
          </a:ln>
        </p:spPr>
      </p:pic>
      <p:sp>
        <p:nvSpPr>
          <p:cNvPr id="99" name="AutoShape 9"/>
          <p:cNvSpPr/>
          <p:nvPr/>
        </p:nvSpPr>
        <p:spPr>
          <a:xfrm rot="10765800">
            <a:off x="456840" y="5789160"/>
            <a:ext cx="152280" cy="32868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00" name="Picture 10" descr=""/>
          <p:cNvPicPr/>
          <p:nvPr/>
        </p:nvPicPr>
        <p:blipFill>
          <a:blip r:embed="rId4"/>
          <a:stretch/>
        </p:blipFill>
        <p:spPr>
          <a:xfrm>
            <a:off x="603360" y="1981080"/>
            <a:ext cx="6194160" cy="414828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11"/>
          <p:cNvSpPr/>
          <p:nvPr/>
        </p:nvSpPr>
        <p:spPr>
          <a:xfrm>
            <a:off x="6789600" y="2273400"/>
            <a:ext cx="152640" cy="3857400"/>
          </a:xfrm>
          <a:prstGeom prst="rect">
            <a:avLst/>
          </a:prstGeom>
          <a:solidFill>
            <a:srgbClr val="0f56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2" name="AutoShape 12"/>
          <p:cNvSpPr/>
          <p:nvPr/>
        </p:nvSpPr>
        <p:spPr>
          <a:xfrm rot="21566400">
            <a:off x="6794280" y="1968120"/>
            <a:ext cx="152280" cy="330120"/>
          </a:xfrm>
          <a:prstGeom prst="rtTriangle">
            <a:avLst/>
          </a:prstGeom>
          <a:solidFill>
            <a:srgbClr val="0f56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3" name="Rectangle 13"/>
          <p:cNvSpPr/>
          <p:nvPr/>
        </p:nvSpPr>
        <p:spPr>
          <a:xfrm>
            <a:off x="10023480" y="-19080"/>
            <a:ext cx="149400" cy="7651800"/>
          </a:xfrm>
          <a:prstGeom prst="rect">
            <a:avLst/>
          </a:prstGeom>
          <a:solidFill>
            <a:srgbClr val="0f56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04" name="Picture 15" descr="H&amp;V Logo"/>
          <p:cNvPicPr/>
          <p:nvPr/>
        </p:nvPicPr>
        <p:blipFill>
          <a:blip r:embed="rId5"/>
          <a:stretch/>
        </p:blipFill>
        <p:spPr>
          <a:xfrm>
            <a:off x="8432640" y="6400800"/>
            <a:ext cx="1219320" cy="914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bluecrossma.com/" TargetMode="External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bluecrossma.com/" TargetMode="External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bluecrossma.com/" TargetMode="External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36200" y="-360"/>
            <a:ext cx="8636040" cy="186228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1" lang="en-US" sz="3800" spc="-1" strike="noStrike">
                <a:solidFill>
                  <a:srgbClr val="5a6c5f"/>
                </a:solidFill>
                <a:latin typeface="Garamond"/>
              </a:rPr>
              <a:t>MIIA - Blue Cross Blue Shield Proposed Benefits </a:t>
            </a:r>
            <a:endParaRPr b="0" lang="en-US" sz="3800" spc="-1" strike="noStrike">
              <a:solidFill>
                <a:srgbClr val="5a6c5f"/>
              </a:solidFill>
              <a:latin typeface="Garamond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Out-Of-Pocket Maximum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07960" y="2590560"/>
            <a:ext cx="922032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286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Current Plan: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$600 Enhanced Tier admission out of pocket maximum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$1200 out of pocket maximum for Standard or basic tier admission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$300. out of pocket maximum for Surgical Day Care Admissions.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New Plan: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$1200 out of pocket maximum for all inpatient admissions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$600 out of pocket maximum for surgical day care admissions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55320" y="45684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Healthy Livi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422000" y="2285640"/>
            <a:ext cx="817884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$150 Fitness Benefit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$150 Weight Loss Benefit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Childbirth Class Benefit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Living Healthy Babie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Blue Care Line:  1-888-247-BLUE (2583)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Living Healthy Vision Discount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Living Healthy Naturally Discount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Safe Beginnings Discount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79000" y="30456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Member Central Accoun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45680" y="2285640"/>
            <a:ext cx="817884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286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Visit 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Garamond"/>
                <a:hlinkClick r:id="rId1"/>
              </a:rPr>
              <a:t>www.bluecrossma.com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Create An Online Account, Then You Can: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Change Your PCP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Request An ID Card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Review Your Plan Benefit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Review Your Claim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Track Your Deductible &amp; Coinsurance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Enroll In My Blue Health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0" y="2438280"/>
            <a:ext cx="9067680" cy="4546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286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For Provider Information Or Questions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On Your Membership, Benefits, Referrals Or Claim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Call Member Service Toll-free Number On ID Card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Monday - Friday, 8 a.m. - 6 p.m.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Or Visit 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Garamond"/>
                <a:hlinkClick r:id="rId1"/>
              </a:rPr>
              <a:t>www.bluecrossma.com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Plan Offerings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817884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2860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HMO Blue New England (HMO)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Blue Care Elect Preferred  (PPO)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Slide Number Placeholder 3"/>
          <p:cNvSpPr/>
          <p:nvPr/>
        </p:nvSpPr>
        <p:spPr>
          <a:xfrm>
            <a:off x="4952880" y="7315200"/>
            <a:ext cx="2415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7E11A-1C01-4D94-A961-6E49416AD3C1}" type="slidenum">
              <a:rPr b="0" lang="en-US" sz="1200" spc="-1" strike="noStrike">
                <a:solidFill>
                  <a:srgbClr val="000000"/>
                </a:solidFill>
                <a:latin typeface="GillSans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HMO Blue New England HMO Blue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60240" y="2514240"/>
            <a:ext cx="883944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Use HMO Blue Network Provider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PCP Required – Change Anytime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Referrals To Network Specialist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No Referrals For:  OB/GYN Care, Chiropractic Care, Outpatient Behavioral Health Visits, Routine Vision Exam, Emergency Or Out-Of-Area Urgent Care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Blue Care Elect Preferred (PPO)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66400" y="3048120"/>
            <a:ext cx="8178840" cy="3581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No Primary Care Physician Needed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No Referrals Needed For Specialty Care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National Network – Ability to have services rendered out of state at the same out of pocket cost as HMO member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66092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Find A Blue  Cross Network Provider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12880" y="2819160"/>
            <a:ext cx="8534160" cy="3809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Visit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Garamond"/>
                <a:hlinkClick r:id="rId1"/>
              </a:rPr>
              <a:t>www.bluecrossma.com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Call Physician Selection Service 1-800-821-1388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Ask Your Providers If They Are In The HMO Blue Network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Proposed Change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66400" y="2590920"/>
            <a:ext cx="8178840" cy="4038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Addition of a plan year deductible for some services - $250 Per Individual, $750 Per Family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Primary Care Physician Office Visits 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Specialist Office Visit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Emergency Room Visit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MRI, CT and PET Scan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Prescription Drug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Slide Number Placeholder 3"/>
          <p:cNvSpPr/>
          <p:nvPr/>
        </p:nvSpPr>
        <p:spPr>
          <a:xfrm>
            <a:off x="4952880" y="7315200"/>
            <a:ext cx="2415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EAF84-D983-47C8-9F46-16D8C4DD7C40}" type="slidenum">
              <a:rPr b="0" lang="en-US" sz="1200" spc="-1" strike="noStrike">
                <a:solidFill>
                  <a:srgbClr val="000000"/>
                </a:solidFill>
                <a:latin typeface="GillSans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Services That Are Not Subject to the Deductibl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03040" y="2057400"/>
            <a:ext cx="9956880" cy="5105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99000"/>
          </a:bodyPr>
          <a:p>
            <a:pPr marL="226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SERVICES THAT ARE NOT SUBJECT TO DEDUCTIBLE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6080" indent="-22608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Preventive Visits, Related Tests &amp; Immunizations: You Pay $0 (</a:t>
            </a:r>
            <a:r>
              <a:rPr b="1" i="1" lang="en-US" sz="2000" spc="-1" strike="noStrike">
                <a:solidFill>
                  <a:srgbClr val="000000"/>
                </a:solidFill>
                <a:latin typeface="Garamond"/>
              </a:rPr>
              <a:t>no change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6080" indent="-22608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Diagnostic PCP, OB/GYN, Nurse Practitioner Visits:  You Pay $20 (</a:t>
            </a:r>
            <a:r>
              <a:rPr b="1" i="1" lang="en-US" sz="2000" spc="-1" strike="noStrike">
                <a:solidFill>
                  <a:srgbClr val="000000"/>
                </a:solidFill>
                <a:latin typeface="Garamond"/>
              </a:rPr>
              <a:t>today you pay $10 to $20 per visit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6080" indent="-22608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Mental Health Office Visits You Pay $15  </a:t>
            </a:r>
            <a:r>
              <a:rPr b="1" i="1" lang="en-US" sz="2000" spc="-1" strike="noStrike">
                <a:solidFill>
                  <a:srgbClr val="000000"/>
                </a:solidFill>
                <a:latin typeface="Garamond"/>
              </a:rPr>
              <a:t>(today you pay $10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6080" indent="-22608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Other Professional Providers &amp; Specialist Visits: You Pay $35. (t</a:t>
            </a:r>
            <a:r>
              <a:rPr b="1" i="1" lang="en-US" sz="2000" spc="-1" strike="noStrike">
                <a:solidFill>
                  <a:srgbClr val="000000"/>
                </a:solidFill>
                <a:latin typeface="Garamond"/>
              </a:rPr>
              <a:t>oday you pay $25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6080" indent="-22608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Prescription Drugs   You Pay 10/25/50 for a 30 day supply, 20/50/110 through Mail Service. (t</a:t>
            </a:r>
            <a:r>
              <a:rPr b="1" i="1" lang="en-US" sz="2000" spc="-1" strike="noStrike">
                <a:solidFill>
                  <a:srgbClr val="000000"/>
                </a:solidFill>
                <a:latin typeface="Garamond"/>
              </a:rPr>
              <a:t>oday you have a 10/20/40 for retail, 20/40/90 mail.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6080" indent="-22608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Chiropractic Visits – You pay $20  </a:t>
            </a:r>
            <a:r>
              <a:rPr b="1" i="1" lang="en-US" sz="2000" spc="-1" strike="noStrike">
                <a:solidFill>
                  <a:srgbClr val="000000"/>
                </a:solidFill>
                <a:latin typeface="Garamond"/>
              </a:rPr>
              <a:t>(today you pay $15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6080" indent="-22608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Short Term Rehabilitation Therapy – You Pay $20  (</a:t>
            </a:r>
            <a:r>
              <a:rPr b="1" i="1" lang="en-US" sz="2000" spc="-1" strike="noStrike">
                <a:solidFill>
                  <a:srgbClr val="000000"/>
                </a:solidFill>
                <a:latin typeface="Garamond"/>
              </a:rPr>
              <a:t>today you pay $15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6080" indent="-22608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Speech, hearing, and language disorder treatment – You Pay $20  (</a:t>
            </a:r>
            <a:r>
              <a:rPr b="1" i="1" lang="en-US" sz="2000" spc="-1" strike="noStrike">
                <a:solidFill>
                  <a:srgbClr val="000000"/>
                </a:solidFill>
                <a:latin typeface="Garamond"/>
              </a:rPr>
              <a:t>today you pay $15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4" marL="2036520" indent="0">
              <a:spcBef>
                <a:spcPts val="36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6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6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3"/>
          <p:cNvSpPr/>
          <p:nvPr/>
        </p:nvSpPr>
        <p:spPr>
          <a:xfrm>
            <a:off x="4952880" y="7315200"/>
            <a:ext cx="2415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12B8F-DB1B-48E9-9345-D3249D22A938}" type="slidenum">
              <a:rPr b="0" lang="en-US" sz="1200" spc="-1" strike="noStrike">
                <a:solidFill>
                  <a:srgbClr val="000000"/>
                </a:solidFill>
                <a:latin typeface="GillSans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Services Subject To The Deductibl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79360" y="2133360"/>
            <a:ext cx="9524880" cy="5105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2860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After You Pay $250/$750. Plan Year Deductible, Then: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Diagnostic Labs, X-Rays &amp; Other Tests: You Pay  $0 (</a:t>
            </a:r>
            <a:r>
              <a:rPr b="1" i="1" lang="en-US" sz="1800" spc="-1" strike="noStrike">
                <a:solidFill>
                  <a:srgbClr val="000000"/>
                </a:solidFill>
                <a:latin typeface="Garamond"/>
              </a:rPr>
              <a:t>today you have no deductible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CT, Pet Scans and MRI - $100 per category of tests ( </a:t>
            </a:r>
            <a:r>
              <a:rPr b="1" i="1" lang="en-US" sz="1800" spc="-1" strike="noStrike">
                <a:solidFill>
                  <a:srgbClr val="000000"/>
                </a:solidFill>
                <a:latin typeface="Garamond"/>
              </a:rPr>
              <a:t>today you pay $0 with no deductible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Emergency Room: You Pay $100 (</a:t>
            </a:r>
            <a:r>
              <a:rPr b="1" i="1" lang="en-US" sz="1800" spc="-1" strike="noStrike">
                <a:solidFill>
                  <a:srgbClr val="000000"/>
                </a:solidFill>
                <a:latin typeface="Garamond"/>
              </a:rPr>
              <a:t>today you pay $100 with no deductible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Inpatient Admissions:  You Pay $300 at a lower cost hospital, $700 at a higher cost hospital. (</a:t>
            </a:r>
            <a:r>
              <a:rPr b="1" i="1" lang="en-US" sz="1800" spc="-1" strike="noStrike">
                <a:solidFill>
                  <a:srgbClr val="000000"/>
                </a:solidFill>
                <a:latin typeface="Garamond"/>
              </a:rPr>
              <a:t>today you pay $200 for Lower cost hospitals and $400 for higher cost hospital with no deductible)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Surgical Day Care – You Pay $150 per admission after deductible (</a:t>
            </a:r>
            <a:r>
              <a:rPr b="1" i="1" lang="en-US" sz="1800" spc="-1" strike="noStrike">
                <a:solidFill>
                  <a:srgbClr val="000000"/>
                </a:solidFill>
                <a:latin typeface="Garamond"/>
              </a:rPr>
              <a:t>today you pay $150 and have no deductible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Hospice and Home Health Care - $0 after deductible</a:t>
            </a:r>
            <a:r>
              <a:rPr b="1" i="1" lang="en-US" sz="1800" spc="-1" strike="noStrike">
                <a:solidFill>
                  <a:srgbClr val="000000"/>
                </a:solidFill>
                <a:latin typeface="Garamond"/>
              </a:rPr>
              <a:t>  (today you pay nothing with no deductible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Durable Medical Equipment </a:t>
            </a:r>
            <a:r>
              <a:rPr b="1" i="1" lang="en-US" sz="1800" spc="-1" strike="noStrike">
                <a:solidFill>
                  <a:srgbClr val="000000"/>
                </a:solidFill>
                <a:latin typeface="Garamond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You Pay $0 after Deductible</a:t>
            </a:r>
            <a:r>
              <a:rPr b="1" i="1" lang="en-US" sz="1800" spc="-1" strike="noStrike">
                <a:solidFill>
                  <a:srgbClr val="000000"/>
                </a:solidFill>
                <a:latin typeface="Garamond"/>
              </a:rPr>
              <a:t> (today you pay $0 with no deductible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Prosthetic Devices – You pay Nothing after deductible</a:t>
            </a:r>
            <a:r>
              <a:rPr b="0" i="1" lang="en-US" sz="1800" spc="-1" strike="noStrike">
                <a:solidFill>
                  <a:srgbClr val="000000"/>
                </a:solidFill>
                <a:latin typeface="Garamond"/>
              </a:rPr>
              <a:t> –</a:t>
            </a:r>
            <a:r>
              <a:rPr b="1" i="1" lang="en-US" sz="1800" spc="-1" strike="noStrike">
                <a:solidFill>
                  <a:srgbClr val="000000"/>
                </a:solidFill>
                <a:latin typeface="Garamond"/>
              </a:rPr>
              <a:t> (today you pay 20% co-insurance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0">
              <a:lnSpc>
                <a:spcPct val="80000"/>
              </a:lnSpc>
              <a:spcBef>
                <a:spcPts val="36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Why Change?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817884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2860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Benefits will not change for a period agreed upon by management and labor)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No hidden out of pocket cost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No off anniversary rates increase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Deductible is plan year not calendar year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Cashman Elementary School</cp:lastModifiedBy>
  <dcterms:modified xsi:type="dcterms:W3CDTF">2012-05-09T12:26:38Z</dcterms:modified>
  <cp:revision>546</cp:revision>
  <dc:subject/>
  <dc:title>Corporate Update &amp; Vision for Affordability</dc:title>
</cp:coreProperties>
</file>